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B5E8-6F87-49DB-8892-6B5381D2A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low Ch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Flo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to lithological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 iden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grad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borehole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 mapp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 determi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ck str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tu stress 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cture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id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th to lithological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thology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nerals grad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borehol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ucture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p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oc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itu stress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actur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luid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6AE8C-784C-43BD-9D55-8920F3675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9CD72-0944-47A0-8147-5A131C982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C5E21-FE3F-43BC-B131-D61C21D54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BF8F8-373C-499D-8D93-C246829FF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C6F8A-2D2B-4D24-ADF9-2DB368135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65C6D-768B-4B86-9D09-BE5C7B981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2F4BF-15C6-4A11-90DC-4C8BC53E0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A4E62-9885-444D-AF34-43539DE8B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81C43-29F4-47D9-B496-097D49E25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B4C5A-A11E-4146-AF46-A2438A0B7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6A20B-45A3-40D0-AE8F-616866569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13D5-5725-4DE1-92AC-E350280A1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55F9-6B3B-42E4-8CF6-581B36EAE9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Місце для нижнього колонтитула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RomaK</cp:lastModifiedBy>
  <dcterms:modified xsi:type="dcterms:W3CDTF">2015-09-04T09:46:11Z</dcterms:modified>
  <cp:revision>33</cp:revision>
  <dc:subject/>
  <dc:title>WELL LOG  (The Bore Hole Image) </dc:title>
</cp:coreProperties>
</file>